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.wmf" ContentType="image/x-wmf"/>
  <Override PartName="/ppt/media/chimes.wav" ContentType="audio/x-wav"/>
  <Override PartName="/ppt/media/image28.png" ContentType="image/png"/>
  <Override PartName="/ppt/media/image1.wmf" ContentType="image/x-wmf"/>
  <Override PartName="/ppt/media/image26.png" ContentType="image/png"/>
  <Override PartName="/ppt/media/image24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clap.wav" ContentType="audio/x-wav"/>
  <Override PartName="/ppt/media/image17.wmf" ContentType="image/x-wmf"/>
  <Override PartName="/ppt/media/image12.wmf" ContentType="image/x-wmf"/>
  <Override PartName="/ppt/media/image27.png" ContentType="image/png"/>
  <Override PartName="/ppt/media/image30.png" ContentType="image/png"/>
  <Override PartName="/ppt/media/image35.jpeg" ContentType="image/jpeg"/>
  <Override PartName="/ppt/media/image31.png" ContentType="image/png"/>
  <Override PartName="/ppt/media/image33.png" ContentType="image/png"/>
  <Override PartName="/ppt/media/image16.wmf" ContentType="image/x-wmf"/>
  <Override PartName="/ppt/media/image34.jpeg" ContentType="image/jpeg"/>
  <Override PartName="/ppt/media/image36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11.gif" ContentType="image/gif"/>
  <Override PartName="/ppt/media/image39.png" ContentType="image/png"/>
  <Override PartName="/ppt/media/cashreg.wav" ContentType="audio/x-wav"/>
  <Override PartName="/ppt/media/image37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22.gif" ContentType="image/gif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7B4A-14D7-49F1-B0AB-F11764B1B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6C13-93F4-4FB4-9484-259225D4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DA29-E945-4363-80D5-94CCF1CF2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44AD-6AF3-46FD-AEC6-4AC57681C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6A52-58BB-4B89-BE4C-A172844DC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C810-C554-4C74-A8C5-2CD7A3EE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B30A-D932-49BF-BD99-8E78EF5D8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580-A767-4223-AB89-330D2667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DA2-BD21-4994-956E-2A9468AD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BBF-D84C-40FA-9C87-8EAD3A00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6DB-92A4-4AE8-8C61-00838580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97455-38D6-4D76-B29C-D448C454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2ACD6-56A6-49E9-ABBE-8737D61F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5CDFD-30FE-43EC-9A5F-0FDB62AD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8818C-A607-4F16-949F-4DE05264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1758B-3E00-46C1-AB40-CC25B00C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044F2-3F05-49EE-AB37-34A2754C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2B5C7-2A12-44CB-B0F0-5D2DCFD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446-516E-475E-BB40-A7B57407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9D6B1-98E5-4BC9-B236-D7CF0E7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F0DDB-745F-41CD-9D0E-8A4EDFEE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610BB-CA3F-4FA4-91BE-4F9BC4AD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1B549-A68A-441B-9418-3BE3E37C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C08D3-8C21-473D-9710-765DEF66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3CE0D-04CA-4A67-A38D-4F0D88C4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D195E-1499-47A3-8FDB-C1539B64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44EE7-5E7B-4076-87ED-BC61C14D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2172E-9A9A-403C-BA2A-BB1296FA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B9950-D4BA-4A55-B36B-4D809CAC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7F1-7EAD-4B9E-9326-8A9F7F5A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3B82B-6FB2-48B5-B29E-A72AAA5A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02860-89E9-49A6-AEC3-0CCA0EA1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588E9-C80F-4D70-8EE3-68B065EB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108D0-EE25-4519-B5D6-63898F9C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A92C0-9F2E-4C45-B5CB-0B811ECF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25A64-89C5-44B3-B82F-0B755CA1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30A36-49B2-4766-91B6-747ADA06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776B1-D552-4E39-BDCE-EBB12B9E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BFD32-852F-47D5-A4B8-299267E3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575B4-AE0D-49F4-BE23-BFCF4752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2CC-453C-4129-AB9B-4E9EFC5A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6F213-90E2-4E64-911E-836B136E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97EAE-8BFE-4ADF-9C68-F88CB2B9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A0830D-713F-42D2-9602-66308DCC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E06CC-155B-493E-9A83-4DFF4743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5B3A7-B7F7-40DE-8FCA-2BE27C51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2CB67-3AEF-453B-9819-E4BECB1D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B8247-9ABD-4110-A71A-EB3FB475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47565-0BE3-48DD-89FA-7466F6B6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17F75-9017-484D-B2AA-AF396AA3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7C2-85A7-4EFC-85E4-4ED487F5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F1B-9F1C-4B86-A401-6597F12B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E6E-0B42-467B-B4FA-426CA77C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E08-340C-421C-B71E-2FF5AD2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660-F26B-4F89-AF39-6F1135C1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AB67-A4AB-491E-B730-6DDF943A3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D74E-4112-4911-872E-C2C5FB410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24AE-323F-4346-9B7C-359919A57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11C7-A423-4BF8-B0E7-9BE9FBF49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ff"/>
                </a:solidFill>
                <a:latin typeface="Ale and Wenches BB"/>
              </a:rPr>
              <a:t>Introduction to Poet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Butter"/>
              </a:rPr>
              <a:t>Poetic Devices &amp;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t comes to using a metaphor device in poetry, a poet can either make the entire poem a metaphor for something, or put little metaphors throughout the po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following poem is one big metap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819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ggeration for the sak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 txBox="1"/>
          <p:nvPr/>
        </p:nvSpPr>
        <p:spPr>
          <a:xfrm>
            <a:off x="457200" y="27468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46280" y="293220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I may sweat to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he blood bank needs a river of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MCj01045640000[1]"/>
          <p:cNvPicPr/>
          <p:nvPr/>
        </p:nvPicPr>
        <p:blipFill>
          <a:blip r:embed="rId1"/>
          <a:stretch/>
        </p:blipFill>
        <p:spPr>
          <a:xfrm>
            <a:off x="5867280" y="4495680"/>
            <a:ext cx="1758960" cy="1809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MMj03957350000[1]"/>
          <p:cNvPicPr/>
          <p:nvPr/>
        </p:nvPicPr>
        <p:blipFill>
          <a:blip r:embed="rId2"/>
          <a:stretch/>
        </p:blipFill>
        <p:spPr>
          <a:xfrm>
            <a:off x="1573200" y="4641840"/>
            <a:ext cx="17035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514600" y="1447560"/>
            <a:ext cx="5867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human characteristics to inanimate objects, ideas, or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 txBox="1"/>
          <p:nvPr/>
        </p:nvSpPr>
        <p:spPr>
          <a:xfrm>
            <a:off x="457200" y="274680"/>
            <a:ext cx="4191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62840" y="3809880"/>
            <a:ext cx="463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he sun stretched its laz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ingers over the val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MCj04124640000[1]"/>
          <p:cNvPicPr/>
          <p:nvPr/>
        </p:nvPicPr>
        <p:blipFill>
          <a:blip r:embed="rId1"/>
          <a:stretch/>
        </p:blipFill>
        <p:spPr>
          <a:xfrm>
            <a:off x="5562720" y="3200400"/>
            <a:ext cx="30621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at is Symbolism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hat stands for itself, but also something larger than itself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may be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, an animal, an inanimate object, or a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riter often us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concrete object to express an abstract idea, a quality, or a belie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mbol may appe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a reader's emotions and can provide a way to express an idea, communicate a message, or clarify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MPj04331400000[1]"/>
          <p:cNvPicPr/>
          <p:nvPr/>
        </p:nvPicPr>
        <p:blipFill>
          <a:blip r:embed="rId1"/>
          <a:stretch/>
        </p:blipFill>
        <p:spPr>
          <a:xfrm>
            <a:off x="8153280" y="380880"/>
            <a:ext cx="914400" cy="782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MCj04325420000[1]"/>
          <p:cNvPicPr/>
          <p:nvPr/>
        </p:nvPicPr>
        <p:blipFill>
          <a:blip r:embed="rId2"/>
          <a:stretch/>
        </p:blipFill>
        <p:spPr>
          <a:xfrm>
            <a:off x="152280" y="685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Symbol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riter often use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 concrete object to express an abstract idea, a quality, or a belief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ymbol may appeal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 a reader's emotions and can provide a way to express an idea, communicate a message, or clarify mean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MCj04363920000[1]"/>
          <p:cNvPicPr/>
          <p:nvPr/>
        </p:nvPicPr>
        <p:blipFill>
          <a:blip r:embed="rId1"/>
          <a:stretch/>
        </p:blipFill>
        <p:spPr>
          <a:xfrm>
            <a:off x="3505320" y="228600"/>
            <a:ext cx="83808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her to Son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Langston Hug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960" y="457200"/>
            <a:ext cx="87627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, son, I'll tell you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for me ain't been no crystal stai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's had tacks in 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plinter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oards torn up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laces with no carpet on the floor 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ll the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se been a-climbin' 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achin' landin'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urnin' corner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metimes goin' in the da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re ain't been no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boy, don't you turn bac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you set down on the step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Cause you finds it's kinder h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you fall now 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'se still goin', hone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se still climbin'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life for me ain't been no crystal sta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words to create a picture in the read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 txBox="1"/>
          <p:nvPr/>
        </p:nvSpPr>
        <p:spPr>
          <a:xfrm>
            <a:off x="457200" y="27468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51" name="Picture 5" descr="MCj04238280000[1]"/>
          <p:cNvPicPr/>
          <p:nvPr/>
        </p:nvPicPr>
        <p:blipFill>
          <a:blip r:embed="rId1"/>
          <a:stretch/>
        </p:blipFill>
        <p:spPr>
          <a:xfrm>
            <a:off x="762120" y="4572000"/>
            <a:ext cx="1257120" cy="1994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MCj04346670000[1]"/>
          <p:cNvPicPr/>
          <p:nvPr/>
        </p:nvPicPr>
        <p:blipFill>
          <a:blip r:embed="rId2"/>
          <a:stretch/>
        </p:blipFill>
        <p:spPr>
          <a:xfrm>
            <a:off x="1752480" y="2895480"/>
            <a:ext cx="2895840" cy="250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MCj04326130000[1]"/>
          <p:cNvPicPr/>
          <p:nvPr/>
        </p:nvPicPr>
        <p:blipFill>
          <a:blip r:embed="rId3"/>
          <a:stretch/>
        </p:blipFill>
        <p:spPr>
          <a:xfrm>
            <a:off x="2286000" y="3048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380880" y="228600"/>
            <a:ext cx="2362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ree Ver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666880" y="10666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pple Butter"/>
              </a:rPr>
              <a:t>Poetry that follows no rules.  Just about anything g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609480" y="1828800"/>
            <a:ext cx="8001000" cy="12952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hostwriter"/>
              </a:rPr>
              <a:t>This does not mean that it uses no devices, it just means that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hostwriter"/>
              </a:rPr>
              <a:t>type of poetry does not follow traditional conventions such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hostwriter"/>
              </a:rPr>
              <a:t>punctuation, capitalization, rhyme scheme, rhythm and met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209680" y="3124080"/>
            <a:ext cx="46483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g 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little cat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sits 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harbor and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silent hau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hen, moves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5943600" y="4038480"/>
            <a:ext cx="2590920" cy="2286000"/>
          </a:xfrm>
          <a:prstGeom prst="hexagon">
            <a:avLst>
              <a:gd name="adj" fmla="val 2833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Butter"/>
              </a:rPr>
              <a:t>No Rh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Butter"/>
              </a:rPr>
              <a:t>No Rhy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Butter"/>
              </a:rPr>
              <a:t>No 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Butter"/>
              </a:rPr>
              <a:t>This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ple Butter"/>
              </a:rPr>
              <a:t>free ve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j0332364"/>
          <p:cNvPicPr/>
          <p:nvPr/>
        </p:nvPicPr>
        <p:blipFill>
          <a:blip r:embed="rId1"/>
          <a:stretch/>
        </p:blipFill>
        <p:spPr>
          <a:xfrm>
            <a:off x="685800" y="411480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380880" y="228600"/>
            <a:ext cx="2743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590920" y="914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pple Butter"/>
              </a:rPr>
              <a:t>A reference to another piece of literature or to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85800" y="1828800"/>
            <a:ext cx="7696080" cy="16002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Ghostwriter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Ghostwriter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ccffcc"/>
                </a:solidFill>
                <a:latin typeface="Ghostwriter"/>
              </a:rPr>
              <a:t>She hath Dian</a:t>
            </a:r>
            <a:r>
              <a:rPr b="0" lang="ja-JP" sz="2000" spc="-1" strike="noStrike">
                <a:solidFill>
                  <a:srgbClr val="ccff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ccffcc"/>
                </a:solidFill>
                <a:latin typeface="Ghostwriter"/>
              </a:rPr>
              <a:t>s wit</a:t>
            </a:r>
            <a:r>
              <a:rPr b="0" lang="ja-JP" sz="2000" spc="-1" strike="noStrike">
                <a:solidFill>
                  <a:srgbClr val="ccffcc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ccffcc"/>
                </a:solidFill>
                <a:latin typeface="Ghostwriter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(from </a:t>
            </a:r>
            <a:r>
              <a:rPr b="0" i="1" lang="en-US" sz="2000" spc="-1" strike="noStrike">
                <a:solidFill>
                  <a:srgbClr val="ffff00"/>
                </a:solidFill>
                <a:latin typeface="Ghostwriter"/>
              </a:rPr>
              <a:t>Romeo and Juliet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This is an allusion to Roman mythology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goddess D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The three most common types of allusion refe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mythology, the Bible, and Shakespeare</a:t>
            </a: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00"/>
                </a:solidFill>
                <a:latin typeface="Ghostwriter"/>
              </a:rPr>
              <a:t>s wri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to_epi12[1]"/>
          <p:cNvPicPr/>
          <p:nvPr/>
        </p:nvPicPr>
        <p:blipFill>
          <a:blip r:embed="rId1"/>
          <a:stretch/>
        </p:blipFill>
        <p:spPr>
          <a:xfrm rot="20709000">
            <a:off x="762120" y="3809520"/>
            <a:ext cx="2766960" cy="248760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6"/>
          <p:cNvGrpSpPr/>
          <p:nvPr/>
        </p:nvGrpSpPr>
        <p:grpSpPr>
          <a:xfrm>
            <a:off x="5699520" y="3592080"/>
            <a:ext cx="2458080" cy="3053880"/>
            <a:chOff x="5699520" y="3592080"/>
            <a:chExt cx="2458080" cy="3053880"/>
          </a:xfrm>
        </p:grpSpPr>
        <p:pic>
          <p:nvPicPr>
            <p:cNvPr id="265" name="Picture 7" descr="lisstivw[1]"/>
            <p:cNvPicPr/>
            <p:nvPr/>
          </p:nvPicPr>
          <p:blipFill>
            <a:blip r:embed="rId2"/>
            <a:stretch/>
          </p:blipFill>
          <p:spPr>
            <a:xfrm rot="1425000">
              <a:off x="6078240" y="3839400"/>
              <a:ext cx="1700280" cy="22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8" descr="vv2412ie[1]"/>
            <p:cNvPicPr/>
            <p:nvPr/>
          </p:nvPicPr>
          <p:blipFill>
            <a:blip r:embed="rId3"/>
            <a:stretch/>
          </p:blipFill>
          <p:spPr>
            <a:xfrm rot="2406600">
              <a:off x="6384960" y="5466960"/>
              <a:ext cx="1181160" cy="90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1600200" y="19810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hythm is the flow of the beat in a po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ves poetry a musical fe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 be fast or slow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mood and subject of po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 can measure rhythm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by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ing the beats in each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1430280" y="38088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7" descr="Notes"/>
          <p:cNvPicPr/>
          <p:nvPr/>
        </p:nvPicPr>
        <p:blipFill>
          <a:blip r:embed="rId1"/>
          <a:stretch/>
        </p:blipFill>
        <p:spPr>
          <a:xfrm>
            <a:off x="6275520" y="4680"/>
            <a:ext cx="2868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371600" y="32767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457200" y="68580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286000" y="6094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pple Butter"/>
              </a:rPr>
              <a:t>The repetition of sounds   End rhyme- the last word on each line rhy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04920" y="17524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xample:  </a:t>
            </a: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hat, cat,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rat, fat, mat, 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1600200" y="2590920"/>
            <a:ext cx="5791320" cy="3124080"/>
            <a:chOff x="1600200" y="2590920"/>
            <a:chExt cx="5791320" cy="3124080"/>
          </a:xfrm>
        </p:grpSpPr>
        <p:sp>
          <p:nvSpPr>
            <p:cNvPr id="178" name="Rectangle 9"/>
            <p:cNvSpPr/>
            <p:nvPr/>
          </p:nvSpPr>
          <p:spPr>
            <a:xfrm>
              <a:off x="1600200" y="2590920"/>
              <a:ext cx="5791320" cy="31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1752840" y="2660040"/>
              <a:ext cx="5486400" cy="28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 Be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Shel Silverste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 beard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grow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o my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to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never wears no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cloth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wraps my </a:t>
              </a:r>
              <a:r>
                <a:rPr b="0" lang="en-US" sz="1800" spc="-1" strike="noStrike" u="sng">
                  <a:solidFill>
                    <a:srgbClr val="99cc00"/>
                  </a:solidFill>
                  <a:uFillTx/>
                  <a:latin typeface="Arial"/>
                </a:rPr>
                <a:t>hai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ound my </a:t>
              </a:r>
              <a:r>
                <a:rPr b="0" lang="en-US" sz="1800" spc="-1" strike="noStrike" u="sng">
                  <a:solidFill>
                    <a:srgbClr val="99cc00"/>
                  </a:solidFill>
                  <a:uFillTx/>
                  <a:latin typeface="Arial"/>
                </a:rPr>
                <a:t>bar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down the road I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go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2"/>
          <p:cNvSpPr/>
          <p:nvPr/>
        </p:nvSpPr>
        <p:spPr>
          <a:xfrm>
            <a:off x="855360" y="5904000"/>
            <a:ext cx="82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rhyme- Words INSIDE the sentence rhy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65EC-DC5F-426B-A152-5C24B87BF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hyth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ickety 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ickety 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 it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ickety 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 it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ickety 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 it's a lickety 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it a 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 rickety st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1" descr="fence_-_picket_2"/>
          <p:cNvPicPr/>
          <p:nvPr/>
        </p:nvPicPr>
        <p:blipFill>
          <a:blip r:embed="rId1"/>
          <a:stretch/>
        </p:blipFill>
        <p:spPr>
          <a:xfrm>
            <a:off x="4724280" y="2209680"/>
            <a:ext cx="3124440" cy="25322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609480" y="1219320"/>
            <a:ext cx="510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ickety Fenc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y David Mc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572000" y="50292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rhythm in this poem is fast – to match the speed of the stick striking the f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9" descr="stick"/>
          <p:cNvPicPr/>
          <p:nvPr/>
        </p:nvPicPr>
        <p:blipFill>
          <a:blip r:embed="rId2"/>
          <a:stretch/>
        </p:blipFill>
        <p:spPr>
          <a:xfrm>
            <a:off x="7848720" y="1676520"/>
            <a:ext cx="7938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C44C-A23D-4095-B61C-1EEF791F4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hyth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64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night begins to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sky begins to g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look up and see the 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 lights begin to grow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ows and little golden squ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ghts come out.  First here, then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ind the windowpanes as th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llion billion bees had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golden hives and honeyco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you in the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y Mary Britton Mi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685800" y="1523880"/>
            <a:ext cx="335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5410080" y="41911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rhythm in this poem is slow – to match the night gently falling and the lights slowly coming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7" descr="http://z.about.com/d/webclipart/1/0/I/f/1/moon9.gif - 3.5 K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686A-4CDE-4413-A6C2-6550EA823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finger"/>
          <p:cNvPicPr/>
          <p:nvPr/>
        </p:nvPicPr>
        <p:blipFill>
          <a:blip r:embed="rId1"/>
          <a:stretch/>
        </p:blipFill>
        <p:spPr>
          <a:xfrm>
            <a:off x="6019920" y="4876920"/>
            <a:ext cx="914400" cy="684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nose3"/>
          <p:cNvPicPr/>
          <p:nvPr/>
        </p:nvPicPr>
        <p:blipFill>
          <a:blip r:embed="rId2"/>
          <a:stretch/>
        </p:blipFill>
        <p:spPr>
          <a:xfrm>
            <a:off x="6095880" y="2286000"/>
            <a:ext cx="685800" cy="517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NeillSenses1"/>
          <p:cNvPicPr/>
          <p:nvPr/>
        </p:nvPicPr>
        <p:blipFill>
          <a:blip r:embed="rId3"/>
          <a:srcRect l="63529" t="0" r="17154" b="77918"/>
          <a:stretch/>
        </p:blipFill>
        <p:spPr>
          <a:xfrm>
            <a:off x="7620120" y="3352680"/>
            <a:ext cx="761760" cy="8146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mouth"/>
          <p:cNvPicPr/>
          <p:nvPr/>
        </p:nvPicPr>
        <p:blipFill>
          <a:blip r:embed="rId4"/>
          <a:stretch/>
        </p:blipFill>
        <p:spPr>
          <a:xfrm>
            <a:off x="7086600" y="4419720"/>
            <a:ext cx="838080" cy="630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eye2"/>
          <p:cNvPicPr/>
          <p:nvPr/>
        </p:nvPicPr>
        <p:blipFill>
          <a:blip r:embed="rId5"/>
          <a:stretch/>
        </p:blipFill>
        <p:spPr>
          <a:xfrm>
            <a:off x="7086600" y="2666880"/>
            <a:ext cx="838080" cy="5684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8"/>
          <p:cNvSpPr/>
          <p:nvPr/>
        </p:nvSpPr>
        <p:spPr>
          <a:xfrm>
            <a:off x="5486400" y="365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Five S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 flipV="1">
            <a:off x="6400800" y="3047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64008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 flipV="1">
            <a:off x="6705720" y="3276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6705720" y="40384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7162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457200" y="1905120"/>
            <a:ext cx="4495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ry is the use of words to create pictures, or images, in your mi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s to the five senses: smell, sight, hearing, taste and tou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about smells, sounds, colors, and taste create strong imag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vivid images writers us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gures of spee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5AB8-C50B-4FF8-AA67-308B149C2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s and Stan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ems are written in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lines in     a poem is called a stan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zas separate ideas in a poem.  They act like paragrap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em has two stanz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4572000" y="205740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4876920" y="1447920"/>
            <a:ext cx="3809880" cy="51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March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 blu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 blue jay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nd a good beg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One cr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lting snow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pring</a:t>
            </a:r>
            <a:r>
              <a:rPr b="0" lang="ja-JP" sz="2400" spc="-1" strike="noStrike">
                <a:solidFill>
                  <a:srgbClr val="80808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 win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By Eleanor Farj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>
            <a:off x="2971800" y="3429000"/>
            <a:ext cx="2362320" cy="1143000"/>
          </a:xfrm>
          <a:prstGeom prst="line">
            <a:avLst/>
          </a:prstGeom>
          <a:ln w="28440">
            <a:solidFill>
              <a:srgbClr val="d903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5410080" y="3962520"/>
            <a:ext cx="0" cy="1523880"/>
          </a:xfrm>
          <a:prstGeom prst="line">
            <a:avLst/>
          </a:prstGeom>
          <a:ln w="38160">
            <a:solidFill>
              <a:srgbClr val="d90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5410080" y="3962520"/>
            <a:ext cx="381240" cy="0"/>
          </a:xfrm>
          <a:prstGeom prst="line">
            <a:avLst/>
          </a:prstGeom>
          <a:ln w="38160">
            <a:solidFill>
              <a:srgbClr val="d90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5410080" y="5486400"/>
            <a:ext cx="381240" cy="0"/>
          </a:xfrm>
          <a:prstGeom prst="line">
            <a:avLst/>
          </a:prstGeom>
          <a:ln w="38160">
            <a:solidFill>
              <a:srgbClr val="d90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6"/>
          <p:cNvSpPr/>
          <p:nvPr/>
        </p:nvSpPr>
        <p:spPr>
          <a:xfrm>
            <a:off x="3352680" y="2286000"/>
            <a:ext cx="2057400" cy="0"/>
          </a:xfrm>
          <a:prstGeom prst="line">
            <a:avLst/>
          </a:prstGeom>
          <a:ln w="28440">
            <a:solidFill>
              <a:srgbClr val="d903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EAC8-9F92-4B9C-8FC0-02FB521BB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ree 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free verse poem does not use rhyme or pattern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vary freely in length of lines, stanzas, and su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14800" y="17524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Rev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hen I find out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ho took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last co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ut of the jar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and left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 a bunc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tale old messy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rumbs, I'm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going to 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 a handful 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and crumb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p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someone's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ed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                              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By Myra Cohn Living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6" descr="boy_with_cookies"/>
          <p:cNvPicPr/>
          <p:nvPr/>
        </p:nvPicPr>
        <p:blipFill>
          <a:blip r:embed="rId1"/>
          <a:stretch/>
        </p:blipFill>
        <p:spPr>
          <a:xfrm>
            <a:off x="6781680" y="1905120"/>
            <a:ext cx="1586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6BB3-5DFF-4D70-BA96-78F1CD85F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d is the atmosphere, or emotion, in the poem created by the po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happy, angry, silly, sad, excited, fearful or thoughtfu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et uses words and images to create m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purpose helps determine m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ee slides 65-72 for examples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2" descr="fright"/>
          <p:cNvPicPr/>
          <p:nvPr/>
        </p:nvPicPr>
        <p:blipFill>
          <a:blip r:embed="rId1"/>
          <a:stretch/>
        </p:blipFill>
        <p:spPr>
          <a:xfrm>
            <a:off x="5562720" y="2514600"/>
            <a:ext cx="1277640" cy="1981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happy2"/>
          <p:cNvPicPr/>
          <p:nvPr/>
        </p:nvPicPr>
        <p:blipFill>
          <a:blip r:embed="rId2"/>
          <a:stretch/>
        </p:blipFill>
        <p:spPr>
          <a:xfrm>
            <a:off x="7010280" y="1143000"/>
            <a:ext cx="1435320" cy="1523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frightened%20lady"/>
          <p:cNvPicPr/>
          <p:nvPr/>
        </p:nvPicPr>
        <p:blipFill>
          <a:blip r:embed="rId3"/>
          <a:stretch/>
        </p:blipFill>
        <p:spPr>
          <a:xfrm>
            <a:off x="6934320" y="3657600"/>
            <a:ext cx="1828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AC4D-F645-4C6A-98D8-822CC2E70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od -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Barefoot D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orning, very ear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time I love to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efoot where the fern grows cu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rass is cool between each to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summer morning-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summer mor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when the birds go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he sunny slopes of ai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each rose has a butter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 golden bee to we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 am glad in every to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ummer morning-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ummer mor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33520" y="1371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refoot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Rachel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181480" y="50292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mood in this poem is happy.  What clues in the poem can you use to determine the m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5" descr="1girlflower2-med"/>
          <p:cNvPicPr/>
          <p:nvPr/>
        </p:nvPicPr>
        <p:blipFill>
          <a:blip r:embed="rId1"/>
          <a:stretch/>
        </p:blipFill>
        <p:spPr>
          <a:xfrm>
            <a:off x="5105520" y="1295280"/>
            <a:ext cx="37335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CA2B-9911-42A2-9CD9-BB0782790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od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Mad S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hut my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keep you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do n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and and s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ing you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ime you t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self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ock my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keep m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isapp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y Myra Cohn Living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609480" y="1447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d S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8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3809880" cy="325728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"/>
          <p:cNvSpPr/>
          <p:nvPr/>
        </p:nvSpPr>
        <p:spPr>
          <a:xfrm>
            <a:off x="4800600" y="46483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mood in this poem is angry.  What clues in the poem can you use to determine the m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2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3F92-BE10-4D57-9EDC-5E30DADC4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Po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oved my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ent away from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nothing more to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em en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as it began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oved my fri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Langston Hug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685800" y="1676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5029200" y="50292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e mood in this poem is sad.  What clues in the poem can you use to determine the m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7" descr="two friends"/>
          <p:cNvPicPr/>
          <p:nvPr/>
        </p:nvPicPr>
        <p:blipFill>
          <a:blip r:embed="rId1"/>
          <a:stretch/>
        </p:blipFill>
        <p:spPr>
          <a:xfrm>
            <a:off x="5486400" y="1447920"/>
            <a:ext cx="1886040" cy="3429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1"/>
          <p:cNvSpPr/>
          <p:nvPr/>
        </p:nvSpPr>
        <p:spPr>
          <a:xfrm>
            <a:off x="2209680" y="609480"/>
            <a:ext cx="2743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9555-98CC-4425-9E1F-56DAD3362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 refers to the language of a poem, and how each word is chosen to convey a precise mea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s are very deliberate in choosing each word for its particular effec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important to know the denotation and connotations of the words in a poem, not to mention their literal meaning,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2" descr="question"/>
          <p:cNvPicPr/>
          <p:nvPr/>
        </p:nvPicPr>
        <p:blipFill>
          <a:blip r:embed="rId1"/>
          <a:stretch/>
        </p:blipFill>
        <p:spPr>
          <a:xfrm>
            <a:off x="7467480" y="380880"/>
            <a:ext cx="976320" cy="1067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9" descr="question"/>
          <p:cNvPicPr/>
          <p:nvPr/>
        </p:nvPicPr>
        <p:blipFill>
          <a:blip r:embed="rId2"/>
          <a:stretch/>
        </p:blipFill>
        <p:spPr>
          <a:xfrm>
            <a:off x="6559560" y="304920"/>
            <a:ext cx="766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380880" y="380880"/>
            <a:ext cx="327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76720" y="114300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Butter"/>
              </a:rPr>
              <a:t>The repetition of the initial letter or sound in two or more words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85800" y="26668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o the lay-person, these are called </a:t>
            </a:r>
            <a:r>
              <a:rPr b="0" lang="ja-JP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ongue-twisters</a:t>
            </a:r>
            <a:r>
              <a:rPr b="0" lang="ja-JP" sz="2400" spc="-1" strike="noStrike">
                <a:solidFill>
                  <a:srgbClr val="99cc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xample:  How much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w would a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wdrop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rop if a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wdrop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id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rop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85800" y="2666880"/>
            <a:ext cx="7467480" cy="1524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w_4ds02s[1]"/>
          <p:cNvPicPr/>
          <p:nvPr/>
        </p:nvPicPr>
        <p:blipFill>
          <a:blip r:embed="rId1"/>
          <a:stretch/>
        </p:blipFill>
        <p:spPr>
          <a:xfrm>
            <a:off x="4572000" y="4038480"/>
            <a:ext cx="3917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9B67-A617-421D-A045-C35269CF8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S. Eliot, "Burnt Nor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ords strai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ck and sometimes break, under the burd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tension, slip, slide, perish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y with imprecision, will not stay in plac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stay still.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e choice of harsh words like “burden” and “strai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question"/>
          <p:cNvPicPr/>
          <p:nvPr/>
        </p:nvPicPr>
        <p:blipFill>
          <a:blip r:embed="rId1"/>
          <a:stretch/>
        </p:blipFill>
        <p:spPr>
          <a:xfrm>
            <a:off x="7467480" y="380880"/>
            <a:ext cx="976320" cy="1067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question"/>
          <p:cNvPicPr/>
          <p:nvPr/>
        </p:nvPicPr>
        <p:blipFill>
          <a:blip r:embed="rId2"/>
          <a:stretch/>
        </p:blipFill>
        <p:spPr>
          <a:xfrm>
            <a:off x="6559560" y="304920"/>
            <a:ext cx="766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4"/>
          <p:cNvSpPr txBox="1"/>
          <p:nvPr/>
        </p:nvSpPr>
        <p:spPr>
          <a:xfrm>
            <a:off x="1295280" y="533520"/>
            <a:ext cx="6782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Ton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ne is the attitude writers take towards their subject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1447920" y="37339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a935"/>
                </a:solidFill>
                <a:latin typeface="Comic Sans MS"/>
              </a:rPr>
              <a:t>Would this poem have a different meaning for the reader if the tone was chang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10"/>
          <p:cNvSpPr txBox="1"/>
          <p:nvPr/>
        </p:nvSpPr>
        <p:spPr>
          <a:xfrm>
            <a:off x="6553080" y="5257800"/>
            <a:ext cx="1143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Y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9136800" y="4495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2895480" y="48769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 This that I like About Hockey, My La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y John Kieran (continued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this that I like about hockey, old chap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hink you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l agree that 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righ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though you may get an occasional ra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lways good fun in the figh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toss in the puck, for the players are se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g ho! For the dash on the enemy ne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ho! For the smash as a challenge is me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hey! For a glorious night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1676520"/>
            <a:ext cx="6324480" cy="520560"/>
          </a:xfrm>
          <a:prstGeom prst="rect">
            <a:avLst/>
          </a:prstGeom>
          <a:solidFill>
            <a:srgbClr val="f1a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this that I like about hoc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58000" y="1676520"/>
            <a:ext cx="175248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 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3809880" y="3124080"/>
            <a:ext cx="1447920" cy="825480"/>
          </a:xfrm>
          <a:prstGeom prst="rect">
            <a:avLst/>
          </a:prstGeom>
          <a:solidFill>
            <a:srgbClr val="f1a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257800" y="3886200"/>
            <a:ext cx="2133720" cy="520560"/>
          </a:xfrm>
          <a:prstGeom prst="rect">
            <a:avLst/>
          </a:prstGeom>
          <a:solidFill>
            <a:srgbClr val="f1a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my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841200" y="4800600"/>
            <a:ext cx="2517120" cy="520560"/>
          </a:xfrm>
          <a:prstGeom prst="rect">
            <a:avLst/>
          </a:prstGeom>
          <a:solidFill>
            <a:srgbClr val="f1a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rious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609480" y="5334120"/>
            <a:ext cx="6096240" cy="459720"/>
          </a:xfrm>
          <a:prstGeom prst="rect">
            <a:avLst/>
          </a:prstGeom>
          <a:solidFill>
            <a:srgbClr val="f1a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uth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 Attitude towards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590920" y="5867280"/>
            <a:ext cx="60958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uthor is speak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2"/>
          <p:cNvSpPr/>
          <p:nvPr/>
        </p:nvSpPr>
        <p:spPr>
          <a:xfrm flipV="1">
            <a:off x="8153280" y="2362320"/>
            <a:ext cx="0" cy="3504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1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1219320" y="1447920"/>
            <a:ext cx="73152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e and mood are two different asp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poe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one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thor'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e poet's attitu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war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or her su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od is how the poem make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the listener fe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onfus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o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Moo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0CB2-0159-4A83-9CEE-CD362B66A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for Mea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nd meaning in a poem, readers ask questions as they read.  There are many things to pay attention to when reading a po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rovides clues about – topic, mood, speaker, auth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purpo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hy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ast or slow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ound De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at effects do they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mag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at pictures do we make in our mi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gures of Spee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at do they tell us about the su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o is speaking - poet or character; one voice or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uthor</a:t>
            </a:r>
            <a:r>
              <a:rPr b="0" lang="ja-JP" sz="2000" spc="-1" strike="noStrike">
                <a:solidFill>
                  <a:srgbClr val="80808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 Purp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ending message, sharing feelings, telling story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g funny, being descrip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ppy, sad, angry, thoughtful, silly, excited, frighte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What is happening in the poem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to make meaning, readers must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ke conn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ap into their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background knowl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ior experi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y rea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2" descr="question"/>
          <p:cNvPicPr/>
          <p:nvPr/>
        </p:nvPicPr>
        <p:blipFill>
          <a:blip r:embed="rId1"/>
          <a:stretch/>
        </p:blipFill>
        <p:spPr>
          <a:xfrm>
            <a:off x="7467480" y="380880"/>
            <a:ext cx="976320" cy="1067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9" descr="question"/>
          <p:cNvPicPr/>
          <p:nvPr/>
        </p:nvPicPr>
        <p:blipFill>
          <a:blip r:embed="rId2"/>
          <a:stretch/>
        </p:blipFill>
        <p:spPr>
          <a:xfrm>
            <a:off x="6559560" y="304920"/>
            <a:ext cx="766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6FCE-19A8-41D4-9A33-FF3D3F9AC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s (Continue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dom House Book of Poetry: A Treasury of 572 Poems for Today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Chi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Selected by Jack Prelutsky.  NY:  Random House, 1983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ss, Rhyme, and Reason: A Collection of Poems About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Compiled and annotated by Patricia M. Stockland. Minneapolis, MS: Compass Point Books,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ing 10 Fabulous Forms of Poetry: Great Lessons, Brainstorming Sheets, and Organizers for Writing Haiku, Limericks, Cinquains, and Other Kinds of Poetry Kids Lo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Janeczko, Paul 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Y: Scholastic Professional Books, 2000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mie DePaol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ook of Poem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lected by Tomie DePaola.  NY: G.P. Putna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Sons, 198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wentieth Century Children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Poetry Treasury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lected by Jack Prelutsky.  NY: Alfred A. Knopf, 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: Poem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lected by Lee Bennett Hopkins.  NY: HarperCollins, 199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ing Poetry with Children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nterey, CA: Evan-Moor Corp., 199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B862-A959-4DE3-8062-DFD7EC3D7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p Art and Images 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esomeclipartforkid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wesomeclipartforkid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ysclipar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arrysclipart.com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e  Picture Clip Art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biblepictur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llwinkle Show; Bullwinkl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Corner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Located at www.googl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artheave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lipartheave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hool.discovery.com/clipar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K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uk.dk.com/static/cs/uk/11/clipart/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citi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.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slefreeclipar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asslefreeclipar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Office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ffice.microsoft.com/clipar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b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writethi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readwritethink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2971800" y="15238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alks in Beau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alks in beauty, like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cloudless climes and starry sk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all tha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best of dark and b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 in her aspect and her ey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us mellowed to that tender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eaven to gaudy day de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52280" y="0"/>
            <a:ext cx="281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pple Butter"/>
              </a:rPr>
              <a:t>Let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bbe0e3"/>
                </a:solidFill>
                <a:latin typeface="Apple Butter"/>
              </a:rPr>
              <a:t>s see what this looks like in a po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5029200" y="533520"/>
            <a:ext cx="609480" cy="1828800"/>
          </a:xfrm>
          <a:prstGeom prst="downArrow">
            <a:avLst>
              <a:gd name="adj1" fmla="val 50000"/>
              <a:gd name="adj2" fmla="val 7501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7010280" y="457200"/>
            <a:ext cx="609840" cy="18288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 rot="10800000">
            <a:off x="6781680" y="3886200"/>
            <a:ext cx="609840" cy="18288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6629400" y="3505320"/>
            <a:ext cx="1295280" cy="304560"/>
          </a:xfrm>
          <a:prstGeom prst="rect">
            <a:avLst/>
          </a:prstGeom>
          <a:noFill/>
          <a:ln w="9360">
            <a:solidFill>
              <a:srgbClr val="fe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6629400" y="2362320"/>
            <a:ext cx="1447920" cy="304560"/>
          </a:xfrm>
          <a:prstGeom prst="rect">
            <a:avLst/>
          </a:prstGeom>
          <a:noFill/>
          <a:ln w="9360">
            <a:solidFill>
              <a:srgbClr val="fe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4267080" y="2362320"/>
            <a:ext cx="1905120" cy="304560"/>
          </a:xfrm>
          <a:prstGeom prst="rect">
            <a:avLst/>
          </a:prstGeom>
          <a:noFill/>
          <a:ln w="9360">
            <a:solidFill>
              <a:srgbClr val="fe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33520" y="4419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6497"/>
                </a:solidFill>
                <a:latin typeface="Apple Butter"/>
              </a:rPr>
              <a:t>These examples use the beginning sounds of words only twice in a line, but by definition, that</a:t>
            </a:r>
            <a:r>
              <a:rPr b="0" lang="ja-JP" sz="2400" spc="-1" strike="noStrike">
                <a:solidFill>
                  <a:srgbClr val="fe6497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e6497"/>
                </a:solidFill>
                <a:latin typeface="Apple Butter"/>
              </a:rPr>
              <a:t>s all you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a42c_lya[1]"/>
          <p:cNvPicPr/>
          <p:nvPr/>
        </p:nvPicPr>
        <p:blipFill>
          <a:blip r:embed="rId1"/>
          <a:stretch/>
        </p:blipFill>
        <p:spPr>
          <a:xfrm>
            <a:off x="304920" y="2362320"/>
            <a:ext cx="2046240" cy="2152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xzysi4qi[1]"/>
          <p:cNvPicPr/>
          <p:nvPr/>
        </p:nvPicPr>
        <p:blipFill>
          <a:blip r:embed="rId2"/>
          <a:stretch/>
        </p:blipFill>
        <p:spPr>
          <a:xfrm>
            <a:off x="7315200" y="3809880"/>
            <a:ext cx="160488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380880" y="380880"/>
            <a:ext cx="327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nomatopoe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971800" y="11430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Butter"/>
              </a:rPr>
              <a:t>Words that spell out sounds; words that sound like what they m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8"/>
          <p:cNvGrpSpPr/>
          <p:nvPr/>
        </p:nvGrpSpPr>
        <p:grpSpPr>
          <a:xfrm>
            <a:off x="685800" y="2743200"/>
            <a:ext cx="7696080" cy="609480"/>
            <a:chOff x="685800" y="2743200"/>
            <a:chExt cx="7696080" cy="609480"/>
          </a:xfrm>
        </p:grpSpPr>
        <p:sp>
          <p:nvSpPr>
            <p:cNvPr id="200" name="Text Box 6"/>
            <p:cNvSpPr/>
            <p:nvPr/>
          </p:nvSpPr>
          <p:spPr>
            <a:xfrm>
              <a:off x="685800" y="274320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Examples:  growl, hiss, pop, boom, crack, ptthhhbb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838080" y="2743200"/>
              <a:ext cx="7467840" cy="60948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11" descr="h0vpnhnj[1]"/>
          <p:cNvPicPr/>
          <p:nvPr/>
        </p:nvPicPr>
        <p:blipFill>
          <a:blip r:embed="rId1"/>
          <a:stretch/>
        </p:blipFill>
        <p:spPr>
          <a:xfrm>
            <a:off x="6629400" y="3733920"/>
            <a:ext cx="1684440" cy="25905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3"/>
          <p:cNvSpPr/>
          <p:nvPr/>
        </p:nvSpPr>
        <p:spPr>
          <a:xfrm>
            <a:off x="4343400" y="4038480"/>
            <a:ext cx="152388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4" descr="4ib0ih2p[1]"/>
          <p:cNvPicPr/>
          <p:nvPr/>
        </p:nvPicPr>
        <p:blipFill>
          <a:blip r:embed="rId2"/>
          <a:stretch/>
        </p:blipFill>
        <p:spPr>
          <a:xfrm>
            <a:off x="4419720" y="4267080"/>
            <a:ext cx="1433520" cy="1600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rn1gxubo[1]"/>
          <p:cNvPicPr/>
          <p:nvPr/>
        </p:nvPicPr>
        <p:blipFill>
          <a:blip r:embed="rId3"/>
          <a:stretch/>
        </p:blipFill>
        <p:spPr>
          <a:xfrm>
            <a:off x="2133720" y="5257800"/>
            <a:ext cx="1904760" cy="1212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txjzydjb[1]"/>
          <p:cNvPicPr/>
          <p:nvPr/>
        </p:nvPicPr>
        <p:blipFill>
          <a:blip r:embed="rId4"/>
          <a:stretch/>
        </p:blipFill>
        <p:spPr>
          <a:xfrm>
            <a:off x="380880" y="3581280"/>
            <a:ext cx="20113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152280" y="0"/>
            <a:ext cx="281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pple Butter"/>
              </a:rPr>
              <a:t>Let</a:t>
            </a:r>
            <a:r>
              <a:rPr b="0" lang="ja-JP" sz="3200" spc="-1" strike="noStrike">
                <a:solidFill>
                  <a:srgbClr val="bbe0e3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bbe0e3"/>
                </a:solidFill>
                <a:latin typeface="Apple Butter"/>
              </a:rPr>
              <a:t>s see what this looks like in a po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2895480" y="228600"/>
            <a:ext cx="6019560" cy="6571080"/>
            <a:chOff x="2895480" y="228600"/>
            <a:chExt cx="6019560" cy="6571080"/>
          </a:xfrm>
        </p:grpSpPr>
        <p:sp>
          <p:nvSpPr>
            <p:cNvPr id="209" name="Rectangle 6"/>
            <p:cNvSpPr/>
            <p:nvPr/>
          </p:nvSpPr>
          <p:spPr>
            <a:xfrm>
              <a:off x="2895480" y="228600"/>
              <a:ext cx="6019560" cy="652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7"/>
            <p:cNvSpPr/>
            <p:nvPr/>
          </p:nvSpPr>
          <p:spPr>
            <a:xfrm>
              <a:off x="3053880" y="372960"/>
              <a:ext cx="5702760" cy="64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ise 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y Shel Silvers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 have one day for girls and boy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n you can make the grandest nois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Screec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scream, holler, and yell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Buzz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 buzzer, </a:t>
              </a: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clan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 bell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neeze – hiccup – whistle – shou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ugh until your lungs wear ou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Too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 whistle, kick a ca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Ban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 spoon against a pa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g, yodel, bellow, hum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low a horn, beat a drum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6497"/>
                  </a:solidFill>
                  <a:latin typeface="Arial"/>
                </a:rPr>
                <a:t>Rat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 window, slam a door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crape a rake across the floor . . 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8"/>
          <p:cNvSpPr/>
          <p:nvPr/>
        </p:nvSpPr>
        <p:spPr>
          <a:xfrm>
            <a:off x="380880" y="2438280"/>
            <a:ext cx="2362320" cy="914400"/>
          </a:xfrm>
          <a:prstGeom prst="rightArrow">
            <a:avLst>
              <a:gd name="adj1" fmla="val 50000"/>
              <a:gd name="adj2" fmla="val 6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ple Butter"/>
              </a:rPr>
              <a:t>Onomatopo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04920" y="43434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6497"/>
                </a:solidFill>
                <a:latin typeface="Ghostwriter"/>
              </a:rPr>
              <a:t>Several other words not highlighted could also be considered as onomatopoeia.  Can you find an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loud"/>
          <p:cNvSpPr/>
          <p:nvPr/>
        </p:nvSpPr>
        <p:spPr>
          <a:xfrm>
            <a:off x="0" y="4038480"/>
            <a:ext cx="2819520" cy="2438640"/>
          </a:xfrm>
          <a:custGeom>
            <a:avLst/>
            <a:gdLst>
              <a:gd name="textAreaLeft" fmla="*/ 388440 w 2819520"/>
              <a:gd name="textAreaRight" fmla="*/ 2230560 w 2819520"/>
              <a:gd name="textAreaTop" fmla="*/ 368280 h 2438640"/>
              <a:gd name="textAreaBottom" fmla="*/ 1957320 h 2438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743200" y="990360"/>
            <a:ext cx="5943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arison between two usually unrelated things using the word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 txBox="1"/>
          <p:nvPr/>
        </p:nvSpPr>
        <p:spPr>
          <a:xfrm>
            <a:off x="457200" y="27468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990720" y="3048120"/>
            <a:ext cx="6781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Joe is as hungry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as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a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In the morning, Rae is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like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an angry 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MCj04283730000[1]"/>
          <p:cNvPicPr/>
          <p:nvPr/>
        </p:nvPicPr>
        <p:blipFill>
          <a:blip r:embed="rId1"/>
          <a:stretch/>
        </p:blipFill>
        <p:spPr>
          <a:xfrm>
            <a:off x="6553080" y="4495680"/>
            <a:ext cx="169236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114800" y="38052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rs Poe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By Archibald MacLe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 poem should be palpable and mute as a globed fru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ilent as the sleeve-worn 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Of casement ledges where the moss has grown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 poem should be wordl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s the flight of bi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Let</a:t>
            </a:r>
            <a:r>
              <a:rPr b="0" lang="ja-JP" sz="4000" spc="-1" strike="noStrike">
                <a:solidFill>
                  <a:srgbClr val="bbe0e3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s see what this looks like in a po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6553080" y="228600"/>
            <a:ext cx="609840" cy="1600200"/>
          </a:xfrm>
          <a:prstGeom prst="downArrow">
            <a:avLst>
              <a:gd name="adj1" fmla="val 50000"/>
              <a:gd name="adj2" fmla="val 6559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5867280" y="1143000"/>
            <a:ext cx="609840" cy="1600200"/>
          </a:xfrm>
          <a:prstGeom prst="downArrow">
            <a:avLst>
              <a:gd name="adj1" fmla="val 50000"/>
              <a:gd name="adj2" fmla="val 6559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4800600" y="358128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Butter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362320" y="15998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mplied comparison between two usually unrel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 txBox="1"/>
          <p:nvPr/>
        </p:nvSpPr>
        <p:spPr>
          <a:xfrm>
            <a:off x="457200" y="27468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33200" y="2743200"/>
            <a:ext cx="900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Lenny is a sn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Ginny is a mouse when it comes to standing up for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0" y="4038480"/>
            <a:ext cx="3352680" cy="2900520"/>
          </a:xfrm>
          <a:custGeom>
            <a:avLst/>
            <a:gdLst>
              <a:gd name="textAreaLeft" fmla="*/ 461880 w 3352680"/>
              <a:gd name="textAreaRight" fmla="*/ 2652120 w 3352680"/>
              <a:gd name="textAreaTop" fmla="*/ 437760 h 2900520"/>
              <a:gd name="textAreaBottom" fmla="*/ 2328120 h 2900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57200" y="430380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The difference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a simile and a metaphor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that a simile requires ei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cc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like</a:t>
            </a:r>
            <a:r>
              <a:rPr b="0" lang="ja-JP" sz="1800" spc="-1" strike="noStrike">
                <a:solidFill>
                  <a:srgbClr val="ffcc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 or </a:t>
            </a:r>
            <a:r>
              <a:rPr b="0" lang="ja-JP" sz="1800" spc="-1" strike="noStrike">
                <a:solidFill>
                  <a:srgbClr val="ffcc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as</a:t>
            </a:r>
            <a:r>
              <a:rPr b="0" lang="ja-JP" sz="1800" spc="-1" strike="noStrike">
                <a:solidFill>
                  <a:srgbClr val="ffcc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 to be inclu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in the comparison, an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metaphor require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neither be u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MCj02808310000[1]"/>
          <p:cNvPicPr/>
          <p:nvPr/>
        </p:nvPicPr>
        <p:blipFill>
          <a:blip r:embed="rId1"/>
          <a:stretch/>
        </p:blipFill>
        <p:spPr>
          <a:xfrm>
            <a:off x="5334120" y="4343400"/>
            <a:ext cx="2523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22:35:35Z</dcterms:created>
  <dc:creator>Jeremy Heritage</dc:creator>
  <dc:description/>
  <cp:keywords/>
  <dc:language>en-US</dc:language>
  <cp:lastModifiedBy>admin</cp:lastModifiedBy>
  <dcterms:modified xsi:type="dcterms:W3CDTF">2012-11-26T19:31:38Z</dcterms:modified>
  <cp:revision>48</cp:revision>
  <dc:subject/>
  <dc:title>PowerPoint Presentation  -  Introduction to Poetry</dc:title>
</cp:coreProperties>
</file>